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11"/>
          </p:nvPr>
        </p:nvSpPr>
        <p:spPr>
          <a:xfrm>
            <a:off x="38098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950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12"/>
          </p:nvPr>
        </p:nvSpPr>
        <p:spPr>
          <a:xfrm>
            <a:off x="-360" y="9372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13"/>
          </p:nvPr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05AB-C4D3-4010-9DF7-BEC9F086EDB6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5A01-D04D-493A-9FCD-3C52A9D087A6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318A-7013-4A8F-AB36-2F5D3AB6C8DD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E304-4C57-4665-8A8A-0415F02B10E3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13EE-8A9B-4776-ABF2-9BA2D07062D0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1C22-1C87-4844-8BD6-DC38CB24F1FC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FF0F-7BAC-4126-8915-E10ACB8B9F3F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F2B08-1B94-4192-B635-81FFB6C674B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0AF0C-DB5E-49C7-B97E-8C8059699F8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05C40-FA5A-44EE-BC00-72C31A09C6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09AA1-670F-4881-A0F4-97E8A9A9F1A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50F1B-B46D-48A1-A6C1-08D623FD0F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CAA42-C30F-4B10-823B-E9A1661B36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DD64D-04F2-45C4-BFFA-5791425E326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20CD3-C629-400E-AE0B-F1170B534C6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97006-9BB2-4732-9C7C-DCDC388DC31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F8DF-EC20-494D-833E-E69CE7D99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8FF5-2DF8-4BFD-8812-73A0560B3E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B48A-185E-473C-9410-E370BA1912F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A907-1FCA-4F03-B551-B54190C2497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47C8-C0B0-4648-B5BC-D8833437B05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645F-B4BB-4DA0-984D-A4366E3B7D4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5408-E4AA-425C-A61E-CC9EA6BA087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BFCE-CD16-4F77-896E-3952A7E8829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7A48-FCAB-4B78-BBBC-C30F6EF2F43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826D-F65F-4A97-A820-28F33B63791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6FC5-7F30-4988-8FE3-792222E4E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7A760-8478-44BB-8178-F32FC8E0399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3BB0F-42CC-4F99-851C-DFF93F8D694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DEC97-814C-458B-A6DD-193E1D1499E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417FD-0EBD-4090-B064-73066E6B05E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12E3D-5F37-4C02-9A00-4BCC076D176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E47FF-1A86-46A8-9EA1-F0AE941BFA3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C96B4C-F967-4DBD-9D3B-3B2851A76ED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08680C-BC3C-4F8D-A372-3F0A199CDA9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95658-D3A4-4E92-A720-D1BE00664DF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B17E2-495A-4BC0-805B-54964B2B3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5249-02EE-4181-92B1-C56637E4A80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A588D9-7DE2-4560-8648-8816DEC8C89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071D1-1EE2-4E47-8FBE-724FEB2FBF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7CB8D-8481-46D7-B973-1E5380F797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672C-B7A7-4D44-9D10-9CB3132D6A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F48A-E645-49B3-8870-8929303445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690A-D26E-4829-AB41-E8C0B4518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9940-987E-42E9-8B7D-9421FA15B5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334C-A295-4BD1-A5F8-E60D727117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A426-5370-4C1C-AE66-3494ADFCEF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6DD1-A2E5-46D6-92AB-4ACB7F35CF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923B-02CB-498D-97A3-601A5EF5B9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4BF9-949A-405D-92A0-986434A14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52EE-6B45-4F78-9BC3-D388E3797B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ED13-F005-4651-AF77-E0BDB00DD3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62BE-EFCB-49FF-B558-FA6017277E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E46D-AB2B-4E96-8CCC-874B0B92F7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641C-D1E8-4D90-934A-471FF0E846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30E4-3663-4699-8CD6-7147025BE6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9E14-743C-4B16-8BB3-C39A0035A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1FA2-A285-45A1-8048-955BDCDC14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67E5-6EAC-4EDD-88E7-32A1699D66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6E93-62D1-4199-B157-DAD2103239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9C87-C9EA-4F7B-A954-7CDEAE2919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7E79F-7279-4017-B06B-90E15D2D6E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6C9F-42D8-4D68-B9A9-3DDD442F48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26FE-E416-44B3-9395-F42AD08C07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ECE-8B1B-4DF5-9A1B-2A2F8C7CEC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669-C9CD-4278-A3B5-3B0C6E3811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C80-BDE6-4A2D-B0DC-A7E76B003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2D6-AF5C-4C73-B768-54D4F57768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AF2-9AEE-44B1-AC28-C8D96ADDCA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A48-3B07-42AB-B572-914DCDD734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F35-7641-4CF2-B49B-961ACED520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086-6FED-450A-8AB0-C1735B12AA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FC9-C60B-4AA0-B656-83A8275ED0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DA0-836E-41D8-8711-B70854166E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ECB-CD1D-4400-B5EE-0BDCF988E2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D20-100B-42C2-B9B7-E8D144F13E6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8D3C6-47FB-4751-8680-1AE145A5C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40EA9-293D-4AE6-BF31-87D2CEE3A8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CF172-A048-46A6-B371-0910B7359E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94FCF-9354-45B3-BAB2-C63006006F4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37519-A383-467E-8504-9215CD2C6B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09BF1-60CD-43A5-9E37-C5B4DDC7CAF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0E240-13CB-489C-9476-2301126ECA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D749E-D91C-4BFF-B2F9-C998A686171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271F0-3F9C-496D-91B1-F7D67EB6878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A5D91-FF10-4B67-B00E-3E085A64199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B4F0A-35C0-4513-B50F-A26E3DA88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463CC-7D2C-4B66-BEAF-97A5ABFF0EA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113ED-15B7-4043-88B6-3F0AC9F761B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27BC1-4368-4593-89D3-9972432C30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1FBFD-C84C-4621-8894-28BD1E2622C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BFE89-6A57-4370-B570-8277C3D6CC7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7B043-9D11-4EF1-A186-40AE158D76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E2ED9-4F60-4EBD-851A-EA0D4F2DE9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27250-FB80-4479-BDE1-C6A3B9206D6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C797F-1969-4B83-BFA7-A228084F67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75DB7-C9E2-417F-A549-62B988802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93D28-ACA2-4251-9B7D-E9FF3575F75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6B82C-BB70-485A-B200-D712894FA5A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364D5-0C30-4DD7-A75B-ED603534AAE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E68A-4337-4AA4-A591-BFA6CF7D93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8997-395D-4DCA-A6F0-D7C1E0343C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0838-7301-4559-B8DB-B6140C480D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A0B9-ABE6-4B4B-AC2C-76F48C0B39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D83F-5E28-4EE2-B8A5-379B0F9E003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27C1-42E1-4FF2-B505-D2092760B14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A07F-A952-4811-8AE2-4EB6C55AF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BA38-B47A-4A52-A10A-CE063AB27C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6220-69F6-4FC1-B378-9693D01EAF4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CAF1-C5A4-4792-BB43-E326C47F9B8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D963-EEFD-4E25-8B2F-C2BB76B090D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A0CA-E455-4389-A3B6-D6396E3617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97ED1-CF10-449C-B8E6-03E5589A53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3CD4DF-5BB8-4914-8FF2-E80DA2F705A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E40DE-D98F-4BA2-B72A-DE770F6D6B4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0EDD0F-7A86-480B-997D-1CDE05778CF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AE443-9CEC-4120-8852-E9E140B9F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D79E3-5572-4156-AC25-61EE59C8FAE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796BA-C895-4552-8C64-A42D6EF97F1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D6C30-496C-40BA-BD17-CCBBE80075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73CB5A-877C-4ECE-96A2-D98DDB183AB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E79B5-07C7-4D8C-BBF7-E2A6618A067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8DB3F3-4AAD-428F-81FD-FFA2E1781B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AC523-5AE8-4B79-BFCA-A6C12C4B10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46E2B-5B2B-4C78-BE47-E233BFA3CD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DD05D-2D4F-4A31-A62B-0049D3E9DDF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D79B6-7177-43C0-A619-D79FA15B5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D0E07858-A052-4030-9955-1C0099E9408B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D7053CF1-C744-4BB9-9520-65E0630B3EB0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8" name="Picture 8" descr="let_logo.jpg"/>
          <p:cNvPicPr/>
          <p:nvPr/>
        </p:nvPicPr>
        <p:blipFill>
          <a:blip r:embed="rId4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9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C752-8330-496C-8BB8-FE467E67F6C0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859C5F84-19AC-453C-9B41-9B90161BB05A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2" name="Picture 8" descr="let_logo.jpg"/>
          <p:cNvPicPr/>
          <p:nvPr/>
        </p:nvPicPr>
        <p:blipFill>
          <a:blip r:embed="rId4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10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3896-689A-4A22-80BE-53684CD263B1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DCD192EA-80E1-44D7-A2EA-E35D119B6332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68BF-08FD-423E-A7F5-F7DA51D04DFE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54E5B8C8-D075-4473-BC45-DD67BDDB16CE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2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D71-D855-41B6-B5F4-46C9F9C5873F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245767D1-F724-4894-B65D-541B6430CE57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4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3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BF2B-554F-4584-BE66-436C56E60751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86FF2D6D-B242-4C68-9110-135FDE8BFC0F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8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4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EED2-23CA-408D-92CD-E9D5ECBCA0DF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B8771ECC-7EF5-4F86-BD1F-79448C2BA5F4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2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5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ABE8-5144-4F6C-B238-FF20E8731F2C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F16C0FA8-A2A3-48C5-96CA-C61AA73A2448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6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6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0659-90D0-4744-B73A-620F933291C3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B0AFDE81-E599-4AA7-A4B9-5DA17F7E70B2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10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7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D7CA-FBC1-419E-843E-85A883C7A1FB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E32AD9E5-D32E-42E5-A0DF-2D67FA10D948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4" name="Picture 8" descr="let_logo.jpg"/>
          <p:cNvPicPr/>
          <p:nvPr/>
        </p:nvPicPr>
        <p:blipFill>
          <a:blip r:embed="rId4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8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A4BC-69F9-430B-960D-046DF68E9EB2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LeCoTec</a:t>
            </a:r>
            <a:r>
              <a:rPr b="0" lang="fi-FI" sz="4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ill Sans"/>
              </a:rPr>
              <a:t>Pirkko Hyvöne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2" name="Picture 3" descr="let_logo.jpg"/>
          <p:cNvPicPr/>
          <p:nvPr/>
        </p:nvPicPr>
        <p:blipFill>
          <a:blip r:embed="rId1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Blogitilas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58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g Stats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mmary Tab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tal views: 574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siest day: 327 — Wednesday, March 10, 201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ews today 267 (Sunday, 6 pm.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3600" y="209160"/>
            <a:ext cx="6248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Gill Sans"/>
              </a:rPr>
              <a:t>Tilan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67000" y="1418760"/>
            <a:ext cx="658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ollaboratiivinen jakso alkaa 30.3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itä enne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eman ykkös- ja kakkostoive (lista kiertämää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olmen teeman kirjoitukset valmiiks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piskelumateriaalit, kun ryhmät tiedoss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cademic writing manu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Muistattehan täyttää kyselyn 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8.4., 22.4. ja 6.5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Välipalautett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7840" y="1752120"/>
            <a:ext cx="6580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Laatu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orian ymmärrys näky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arkasteltu eri näkökulmis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orian käytäntöön soveltaminen tai omaan työhön reflektointi jokseenkin vähäistä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n tehty arvokkaita havaintoja ja on herännyt tärkeitä kysymyksiä!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ommentointi/keskustelu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ästä on hyvä jatkaa seuraavaan vaiheeseen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Content Placeholder 3" descr=""/>
          <p:cNvPicPr/>
          <p:nvPr/>
        </p:nvPicPr>
        <p:blipFill>
          <a:blip r:embed="rId1"/>
          <a:stretch/>
        </p:blipFill>
        <p:spPr>
          <a:xfrm>
            <a:off x="1090440" y="182520"/>
            <a:ext cx="7078680" cy="57675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170640" y="4172040"/>
            <a:ext cx="1352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Gill Sans"/>
              </a:rPr>
              <a:t>Joustavuu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6"/>
          <p:cNvSpPr/>
          <p:nvPr/>
        </p:nvSpPr>
        <p:spPr>
          <a:xfrm>
            <a:off x="1162080" y="866880"/>
            <a:ext cx="73533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ORIAN SOVELTAMINEN KÄYTÄNTÖÖ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- ideat, oivallukset, toteamukset, uudet kysymyks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itä olet havainnut itsestäsi opettajana/HR-toimijana ja oppijana?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itä olet havainnut teorian soveltamisesta erilaisiin oppimisen konteksteihin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8:30:11Z</dcterms:created>
  <dc:creator>Pasi Terästi</dc:creator>
  <dc:description/>
  <dc:language>en-US</dc:language>
  <cp:lastModifiedBy>noikar</cp:lastModifiedBy>
  <cp:lastPrinted>2010-03-17T08:41:39Z</cp:lastPrinted>
  <dcterms:modified xsi:type="dcterms:W3CDTF">2010-03-25T12:31:52Z</dcterms:modified>
  <cp:revision>523</cp:revision>
  <dc:subject/>
  <dc:title>PowerPoint-esitys</dc:title>
</cp:coreProperties>
</file>